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751-64C7-46E1-B521-74BD5E4E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066-631B-4FC5-8F74-4C5A0C5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B06-9868-426C-B8A4-C220FD27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B3F-B787-48CB-B001-F97AF749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2DD-C785-4883-A896-5AC1B526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62A-D931-4E93-828D-51389CA2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1F7-87FF-48BC-A6C0-9FA8DB01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AB1-F534-487A-8925-A483C30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F45-7382-419C-A5DD-66EAD17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FE6-B27B-4016-ACA5-339FF6C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FB5-AB4E-4FBA-A8BB-423F968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D2D-0B8D-45A5-92EC-262E2F4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CEE-8DB3-4CBD-82D5-245190E224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FLUENCE AND ANX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040" y="38862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38760" cy="399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3990960"/>
            <a:ext cx="4292640" cy="286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4292640" y="3803760"/>
            <a:ext cx="485136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 rot="16200000">
            <a:off x="5539320" y="199080"/>
            <a:ext cx="38037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estic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man and the Fair 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r Deal attempted to expand New De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dical Insurance for all America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ved and strengthened Fair Employment Practices Commission (FEPC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ederal aid to educ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irit of reform waned in postwar years (Apathetic Publ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Geneva"/>
              </a:rPr>
              <a:t>Dixiecrats split democratic party over civil rights re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r Deal failed but set the agenda for future attempts to expand New De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senhower's Modern Republican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01920" y="2209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isenhower left New Deal i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aised minimum wage and expanded Social Secur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ated Department of Health, Education, and Welfa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56: Highway Act created interstate highway syst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imulated the econom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aped metropolitan growth patter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all Eisenhower years were politically mode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IVI7233641"/>
          <p:cNvPicPr/>
          <p:nvPr/>
        </p:nvPicPr>
        <p:blipFill>
          <a:blip r:embed="rId2"/>
          <a:stretch/>
        </p:blipFill>
        <p:spPr>
          <a:xfrm>
            <a:off x="228600" y="2133720"/>
            <a:ext cx="47512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war Prospe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45–1960: Rapid economic grow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lder industries will suffer (steel, agriculture, etc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ssion hits by end of 50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in Defense Spen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i to consumer goods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by bo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shift to subur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in capital spen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portun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Geneva"/>
              </a:rPr>
              <a:t>GI Bill 194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Geneva"/>
              </a:rPr>
              <a:t>Employment Act 19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DIVI618"/>
          <p:cNvPicPr/>
          <p:nvPr/>
        </p:nvPicPr>
        <p:blipFill>
          <a:blip r:embed="rId2"/>
          <a:stretch/>
        </p:blipFill>
        <p:spPr>
          <a:xfrm>
            <a:off x="4648320" y="1676520"/>
            <a:ext cx="41828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umerism the dominant social theme of the 1950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burbia inhabited by middle clas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significant social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endence on the automob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mily together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anxiety and dissatisfa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in the workplace stimulates new femin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reas of Greatest Grow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urch membership boo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hool attendance (federal aid to focus on math and science/Sputni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levision watch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itics of the Consumer Socie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“Beat” movement were artists and authors (ex: David Riesman) criticizing the conformity of suburban corporate 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4:29:03Z</dcterms:created>
  <dc:creator>CMU</dc:creator>
  <dc:description/>
  <cp:keywords/>
  <dc:language>en-US</dc:language>
  <cp:lastModifiedBy>Thaddeus J. Brooks</cp:lastModifiedBy>
  <cp:lastPrinted>2012-04-19T01:07:11Z</cp:lastPrinted>
  <dcterms:modified xsi:type="dcterms:W3CDTF">2013-10-28T14:20:18Z</dcterms:modified>
  <cp:revision>37</cp:revision>
  <dc:subject/>
  <dc:title>CHAPTER 29 AFFLUENCE AND ANXIETY: FROM THE FAIR DEAL TO THE GREAT SOCIETY</dc:title>
</cp:coreProperties>
</file>